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3030-D1A6-47E5-B263-FF7E84B5F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E276-7ECD-440D-AA3D-5EAD35742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CC5B-6E3F-447D-BD27-A9E62F049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8DB0-A9D5-4154-8F8B-D9BD253CB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2205-F375-48F3-83D8-609A200C6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4CB1-A2A8-4B1D-8896-5398FA9D9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0786-D671-4098-8E3F-47DFA3733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56F3-0D4C-4416-9ED4-61DF531E8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ED21-4015-4EF7-AE9E-600E9D3EC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373E-B54C-40A2-A2C8-17B3B8E26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BDC0-C8D5-4396-99FC-8B3710F7D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C559-DAAF-42CC-85EB-73116A875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8DA1-57F8-40CD-A4F4-FB3F7B598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B066-C4ED-4B43-8A31-0390F9878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AE46-75A7-444B-96CE-36B764EF9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F04B-B7AA-4926-A66B-EA2151B73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636A-1439-4621-8FF7-87DAD7004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8670-796F-4281-A515-275C6D190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06D6-3512-455E-9DF8-0AD301B2B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691D-C5ED-4A14-9D17-998E48CAC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61E4-F810-4368-A652-D93C1485D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6C91-B2A6-4BD5-ADCC-24A7CCD70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83E8-4D90-4504-B5B6-393C46FBB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EAF4-7D28-4C90-807B-B99C17594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8FAF-2C5D-44DB-8CCE-2A828E385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2B47-B065-425B-A583-698292FC8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018F-3BD8-44CE-B973-6AABB8E01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BC0C-BDF9-4A3A-BDF8-5086E467D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C5A1-5BE8-4B83-8958-0376A4754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937B-A6E0-4E76-B3BA-2E615EBFD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213E-2352-4BF2-9FE7-F5D287E9E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B16E-5F27-40B3-ABBA-9B88F012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82C9-80E5-4BAA-A9F5-C63ED9B8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F419-39AB-433D-8470-49E198C7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74FC-FE94-4A59-9009-AA8547DD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04CB-D324-40EE-B5B2-ABA20451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02B9-BDAC-498C-9E7B-9D042E41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9977-A86E-48D0-BBAB-7236B180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E16F-434F-4ADB-9B28-8C1401B9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DB25-B07A-4073-9E36-4BDEDEAC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393E-B0E4-45E0-ABF8-77D87BFD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300D-601A-4EA2-A282-7A03241B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A18F-BB92-45BA-95A5-7A688E10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92AA-E481-4A8D-9D3D-1DAE7113398F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9.xml"/><Relationship Id="rId6" Type="http://schemas.openxmlformats.org/officeDocument/2006/relationships/slide" Target="slide29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8.xml"/><Relationship Id="rId14" Type="http://schemas.openxmlformats.org/officeDocument/2006/relationships/slide" Target="slide22.xml"/><Relationship Id="rId15" Type="http://schemas.openxmlformats.org/officeDocument/2006/relationships/slide" Target="slide29.xml"/><Relationship Id="rId16" Type="http://schemas.openxmlformats.org/officeDocument/2006/relationships/slide" Target="slide10.xml"/><Relationship Id="rId17" Type="http://schemas.openxmlformats.org/officeDocument/2006/relationships/slide" Target="slide15.xml"/><Relationship Id="rId18" Type="http://schemas.openxmlformats.org/officeDocument/2006/relationships/slide" Target="slide19.xml"/><Relationship Id="rId19" Type="http://schemas.openxmlformats.org/officeDocument/2006/relationships/slide" Target="slide23.xml"/><Relationship Id="rId20" Type="http://schemas.openxmlformats.org/officeDocument/2006/relationships/slide" Target="slide25.xml"/><Relationship Id="rId21" Type="http://schemas.openxmlformats.org/officeDocument/2006/relationships/slide" Target="slide11.xml"/><Relationship Id="rId22" Type="http://schemas.openxmlformats.org/officeDocument/2006/relationships/slide" Target="slide12.xml"/><Relationship Id="rId23" Type="http://schemas.openxmlformats.org/officeDocument/2006/relationships/slide" Target="slide13.xml"/><Relationship Id="rId24" Type="http://schemas.openxmlformats.org/officeDocument/2006/relationships/slide" Target="slide16.xml"/><Relationship Id="rId25" Type="http://schemas.openxmlformats.org/officeDocument/2006/relationships/slide" Target="slide21.xml"/><Relationship Id="rId26" Type="http://schemas.openxmlformats.org/officeDocument/2006/relationships/slide" Target="slide24.xml"/><Relationship Id="rId27" Type="http://schemas.openxmlformats.org/officeDocument/2006/relationships/slide" Target="slide26.xml"/><Relationship Id="rId28" Type="http://schemas.openxmlformats.org/officeDocument/2006/relationships/slide" Target="slide17.xml"/><Relationship Id="rId29" Type="http://schemas.openxmlformats.org/officeDocument/2006/relationships/slide" Target="slide20.xml"/><Relationship Id="rId30" Type="http://schemas.openxmlformats.org/officeDocument/2006/relationships/slide" Target="slide27.xml"/><Relationship Id="rId31" Type="http://schemas.openxmlformats.org/officeDocument/2006/relationships/slide" Target="slide27.xml"/><Relationship Id="rId32" Type="http://schemas.openxmlformats.org/officeDocument/2006/relationships/slide" Target="slide17.xml"/><Relationship Id="rId33" Type="http://schemas.openxmlformats.org/officeDocument/2006/relationships/slide" Target="slide21.xml"/><Relationship Id="rId34" Type="http://schemas.openxmlformats.org/officeDocument/2006/relationships/slide" Target="slide28.xml"/><Relationship Id="rId35" Type="http://schemas.openxmlformats.org/officeDocument/2006/relationships/slide" Target="slide28.xml"/><Relationship Id="rId36" Type="http://schemas.openxmlformats.org/officeDocument/2006/relationships/slide" Target="slide2.xml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85800" y="19051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region where Sparta is located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>
            <a:hlinkClick r:id="rId1" action="ppaction://hlinksldjump"/>
          </p:cNvPr>
          <p:cNvSpPr/>
          <p:nvPr/>
        </p:nvSpPr>
        <p:spPr>
          <a:xfrm>
            <a:off x="0" y="-762120"/>
            <a:ext cx="9144000" cy="7620120"/>
          </a:xfrm>
          <a:custGeom>
            <a:avLst/>
            <a:gdLst>
              <a:gd name="textAreaLeft" fmla="*/ 493560 w 9144000"/>
              <a:gd name="textAreaRight" fmla="*/ 8650440 w 9144000"/>
              <a:gd name="textAreaTop" fmla="*/ 493560 h 7620120"/>
              <a:gd name="textAreaBottom" fmla="*/ 7126560 h 762012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533520" y="8380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early civilization fought in Troy to get back Hele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33520" y="16002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thens faces this sea north of the Mediterranea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533520" y="190512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given to all Spartans who are citizen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09480" y="7621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n 490BC, this battle saw 10,000 Athenians defeat Darius’ army north of Athen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3520" y="838080"/>
            <a:ext cx="8001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Where 300 Spartans under Leonidis held off thousands of Persians for days before losing.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09480" y="1447920"/>
            <a:ext cx="7925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What Athens had to destroy after they lost to Sparta. 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3520" y="1752480"/>
            <a:ext cx="8076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The age at which Spartan males began military “bootcamp” training.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09480" y="14479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city center of Hellenistic math and scienc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57200" y="9144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Philosophy who persuaded Phillip to unite Greece and attack Persia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3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AutoShape 10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533520" y="1447920"/>
            <a:ext cx="8153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066680" y="1371600"/>
            <a:ext cx="70866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Cleisthenes created this group chosen by lot to help Athens run its government.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09480" y="1600200"/>
            <a:ext cx="7925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The father of history, he wrote about the Persian wars. 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5800" y="144792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t this river, Alexander’s army fought a cavalry of 200 elephant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3520" y="137160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e was great to the Spartans for being the lawgive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0"/>
            <a:ext cx="7848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The Athenians reelected him 10 times; he took funds from the Delian League to rebuild Athens.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62120" y="175248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Inventor of geometry.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09480" y="1447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Greek god of war.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762120" y="914400"/>
            <a:ext cx="761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Battle where Alexander first led the Companions against Athenians and Theban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09480" y="182880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amous writer of tragedies in ancient Athen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>
            <a:hlinkClick r:id="rId1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3">
            <a:hlinkClick r:id="rId1" action="ppaction://hlinksldjump"/>
          </p:cNvPr>
          <p:cNvSpPr/>
          <p:nvPr/>
        </p:nvSpPr>
        <p:spPr>
          <a:xfrm>
            <a:off x="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00"/>
                </a:solidFill>
                <a:latin typeface="Times New Roman"/>
              </a:rPr>
              <a:t>Periclean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AutoShape 24">
            <a:hlinkClick r:id="rId2" action="ppaction://hlinksldjump"/>
          </p:cNvPr>
          <p:cNvSpPr/>
          <p:nvPr/>
        </p:nvSpPr>
        <p:spPr>
          <a:xfrm>
            <a:off x="1523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Vari Poli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AutoShape 26">
            <a:hlinkClick r:id="rId3" action="ppaction://hlinksldjump"/>
          </p:cNvPr>
          <p:cNvSpPr/>
          <p:nvPr/>
        </p:nvSpPr>
        <p:spPr>
          <a:xfrm>
            <a:off x="457200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Cultural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7">
            <a:hlinkClick r:id="rId4" action="ppaction://hlinksldjump"/>
          </p:cNvPr>
          <p:cNvSpPr/>
          <p:nvPr/>
        </p:nvSpPr>
        <p:spPr>
          <a:xfrm>
            <a:off x="6095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Greeaat!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28">
            <a:hlinkClick r:id="rId5" action="ppaction://hlinksldjump"/>
          </p:cNvPr>
          <p:cNvSpPr/>
          <p:nvPr/>
        </p:nvSpPr>
        <p:spPr>
          <a:xfrm>
            <a:off x="7620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Agora</a:t>
            </a:r>
            <a:endParaRPr b="1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Potpourri</a:t>
            </a:r>
            <a:endParaRPr b="1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29"/>
          <p:cNvSpPr/>
          <p:nvPr/>
        </p:nvSpPr>
        <p:spPr>
          <a:xfrm>
            <a:off x="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0"/>
          <p:cNvSpPr/>
          <p:nvPr/>
        </p:nvSpPr>
        <p:spPr>
          <a:xfrm>
            <a:off x="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1"/>
          <p:cNvSpPr/>
          <p:nvPr/>
        </p:nvSpPr>
        <p:spPr>
          <a:xfrm>
            <a:off x="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3"/>
          <p:cNvSpPr/>
          <p:nvPr/>
        </p:nvSpPr>
        <p:spPr>
          <a:xfrm>
            <a:off x="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4"/>
          <p:cNvSpPr/>
          <p:nvPr/>
        </p:nvSpPr>
        <p:spPr>
          <a:xfrm>
            <a:off x="1523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5"/>
          <p:cNvSpPr/>
          <p:nvPr/>
        </p:nvSpPr>
        <p:spPr>
          <a:xfrm>
            <a:off x="3048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6"/>
          <p:cNvSpPr/>
          <p:nvPr/>
        </p:nvSpPr>
        <p:spPr>
          <a:xfrm>
            <a:off x="457200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37"/>
          <p:cNvSpPr/>
          <p:nvPr/>
        </p:nvSpPr>
        <p:spPr>
          <a:xfrm>
            <a:off x="6095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38"/>
          <p:cNvSpPr/>
          <p:nvPr/>
        </p:nvSpPr>
        <p:spPr>
          <a:xfrm>
            <a:off x="7620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39"/>
          <p:cNvSpPr/>
          <p:nvPr/>
        </p:nvSpPr>
        <p:spPr>
          <a:xfrm>
            <a:off x="1523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0"/>
          <p:cNvSpPr/>
          <p:nvPr/>
        </p:nvSpPr>
        <p:spPr>
          <a:xfrm>
            <a:off x="3048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1"/>
          <p:cNvSpPr/>
          <p:nvPr/>
        </p:nvSpPr>
        <p:spPr>
          <a:xfrm>
            <a:off x="457200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2"/>
          <p:cNvSpPr/>
          <p:nvPr/>
        </p:nvSpPr>
        <p:spPr>
          <a:xfrm>
            <a:off x="6095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3"/>
          <p:cNvSpPr/>
          <p:nvPr/>
        </p:nvSpPr>
        <p:spPr>
          <a:xfrm>
            <a:off x="7620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4"/>
          <p:cNvSpPr/>
          <p:nvPr/>
        </p:nvSpPr>
        <p:spPr>
          <a:xfrm>
            <a:off x="1523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5"/>
          <p:cNvSpPr/>
          <p:nvPr/>
        </p:nvSpPr>
        <p:spPr>
          <a:xfrm>
            <a:off x="1523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46"/>
          <p:cNvSpPr/>
          <p:nvPr/>
        </p:nvSpPr>
        <p:spPr>
          <a:xfrm>
            <a:off x="1523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47"/>
          <p:cNvSpPr/>
          <p:nvPr/>
        </p:nvSpPr>
        <p:spPr>
          <a:xfrm>
            <a:off x="3048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48"/>
          <p:cNvSpPr/>
          <p:nvPr/>
        </p:nvSpPr>
        <p:spPr>
          <a:xfrm>
            <a:off x="457200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49"/>
          <p:cNvSpPr/>
          <p:nvPr/>
        </p:nvSpPr>
        <p:spPr>
          <a:xfrm>
            <a:off x="6095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0"/>
          <p:cNvSpPr/>
          <p:nvPr/>
        </p:nvSpPr>
        <p:spPr>
          <a:xfrm>
            <a:off x="7620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1"/>
          <p:cNvSpPr/>
          <p:nvPr/>
        </p:nvSpPr>
        <p:spPr>
          <a:xfrm>
            <a:off x="3048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52"/>
          <p:cNvSpPr/>
          <p:nvPr/>
        </p:nvSpPr>
        <p:spPr>
          <a:xfrm>
            <a:off x="457200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9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AutoShape 53"/>
          <p:cNvSpPr/>
          <p:nvPr/>
        </p:nvSpPr>
        <p:spPr>
          <a:xfrm>
            <a:off x="6095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0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AutoShape 54"/>
          <p:cNvSpPr/>
          <p:nvPr/>
        </p:nvSpPr>
        <p:spPr>
          <a:xfrm>
            <a:off x="7620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1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AutoShape 55"/>
          <p:cNvSpPr/>
          <p:nvPr/>
        </p:nvSpPr>
        <p:spPr>
          <a:xfrm>
            <a:off x="3048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2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7" name="AutoShape 56"/>
          <p:cNvSpPr/>
          <p:nvPr/>
        </p:nvSpPr>
        <p:spPr>
          <a:xfrm>
            <a:off x="457200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3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8" name="AutoShape 57"/>
          <p:cNvSpPr/>
          <p:nvPr/>
        </p:nvSpPr>
        <p:spPr>
          <a:xfrm>
            <a:off x="6095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4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AutoShape 58"/>
          <p:cNvSpPr/>
          <p:nvPr/>
        </p:nvSpPr>
        <p:spPr>
          <a:xfrm>
            <a:off x="7620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5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AutoShape 60">
            <a:hlinkClick r:id="rId36" action="ppaction://hlinksldjump"/>
          </p:cNvPr>
          <p:cNvSpPr/>
          <p:nvPr/>
        </p:nvSpPr>
        <p:spPr>
          <a:xfrm>
            <a:off x="3048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Phighting </a:t>
            </a:r>
            <a:endParaRPr b="1" lang="en-US" sz="23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Phallanxes</a:t>
            </a:r>
            <a:endParaRPr b="1" lang="en-US" sz="23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85800" y="533520"/>
            <a:ext cx="7848720" cy="72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German archeologist who discovered the real Troy using Homer’s work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838080" y="21337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temple built for Athena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85800" y="1600200"/>
            <a:ext cx="746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e wrote the book The Republic; Socrates is quoted by him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85800" y="18288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Golden Age began when this king was defeated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85800" y="15238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wo events that led to Athenean defeat by the Spartan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09480" y="14479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eroes strove for this ideal; in Greek, pleas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33520" y="205740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early civilization was located on Cret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Local User</cp:lastModifiedBy>
  <dcterms:modified xsi:type="dcterms:W3CDTF">2013-09-26T17:55:35Z</dcterms:modified>
  <cp:revision>28</cp:revision>
  <dc:subject/>
  <dc:title>No Slide Title</dc:title>
</cp:coreProperties>
</file>